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92ADB-8CB2-4B08-A813-01FFAFAF5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82C2C-0F25-4D29-ADC6-97DD1C8A0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0145B-3F3D-4E87-B5E6-C86542B8D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AD09F-1AFF-4CD1-A422-C24242BA4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20149-1223-43AC-A7C4-5EB381680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052CF-3A57-4B47-8FFB-525BF0C3B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1FD7C-A8A4-4E27-A0E8-3025F9383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C6733-3F1E-4E3C-8754-BF8D71BED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9BE1C-D543-4F20-BD16-DCAAA3CB2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B2875-7EF9-4BF9-BEF9-1487B1B69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9EE01-B6EA-4FA8-9F51-E5F340B10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5AF2D-29B3-4B8A-A2DD-AF9D6AAC4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66A2-D12F-45D6-866E-D00B1F3AA8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bp2.blogger.com/_Hi1_E_dvBBw/R0GmCSm295I/AAAAAAAAAq0/DbPbnNEBY_E/s400/rf_jubileejournal_wkend_pageant_nottinghmall.jpg&amp;imgrefurl=http://caribaniaplanetaria.blogspot.com/2008_08_01_archive.html&amp;usg=__mVL2Yg00Ex7ZzboUlcDUqVwC_sg=&amp;h=369&amp;w=370&amp;sz=153&amp;hl=es&amp;start=16&amp;tbnid=9UErRTM-DOPg2M:&amp;tbnh=122&amp;tbnw=122&amp;prev=/images%3Fq%3Dfestival%2Bnothing%2Bhill%26gbv%3D2%26hl%3Des%26safe%3Dstrict%26client%3Ddell-row-rel%26channel%3Des%26sa%3DG%26ad%3Dw5"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nottinghillcarnival.org.uk/php/galleryindex.php"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es/imgres?imgurl=http://english.people.com.cn/200508/30/images/0829_B47.jpg&amp;imgrefurl=http://english.people.com.cn/200508/30/eng20050830_205290.html&amp;usg=__r17zYYWxukYxPcRJaLtW24zohjw=&amp;h=350&amp;w=350&amp;sz=26&amp;hl=es&amp;start=13&amp;um=1&amp;tbnid=qpmkWZNtyqhWBM:&amp;tbnh=120&amp;tbnw=120&amp;prev=/images%3Fq%3Dnothing%2Bhill%2Bfestival%26um%3D1%26hl%3Des%26sa%3DN"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es/imgres?imgurl=http://farm3.static.flickr.com/2117/1574383022_baf1af145e.jpg%3Fv%3D0&amp;imgrefurl=http://flickr.com/photos/53911892%40N00/1574383022/&amp;usg=__6_SCzeKl-2w3Cvk9az3CPQtua4s=&amp;h=303&amp;w=225&amp;sz=37&amp;hl=es&amp;start=5&amp;tbnid=cmXGnAtBBMy6ZM:&amp;tbnh=116&amp;tbnw=86&amp;prev=/images%3Fq%3Dclaudia%2Bjones%26gbv%3D2%26hl%3Des%26sa%3D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a:hlinkClick r:id="rId1"/>
          </p:cNvPr>
          <p:cNvPicPr/>
          <p:nvPr/>
        </p:nvPicPr>
        <p:blipFill>
          <a:blip r:embed="rId2"/>
          <a:stretch/>
        </p:blipFill>
        <p:spPr>
          <a:xfrm>
            <a:off x="0" y="11160"/>
            <a:ext cx="9144000" cy="68454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000099"/>
                </a:solidFill>
                <a:uFillTx/>
                <a:latin typeface="Rockwell Extra Bold"/>
              </a:rPr>
              <a:t>AUGUST</a:t>
            </a:r>
            <a:endParaRPr b="0" lang="en-US" sz="7200" spc="-1" strike="noStrike">
              <a:solidFill>
                <a:srgbClr val="000000"/>
              </a:solidFill>
              <a:latin typeface="Arial"/>
            </a:endParaRPr>
          </a:p>
        </p:txBody>
      </p:sp>
      <p:sp>
        <p:nvSpPr>
          <p:cNvPr id="43" name=""/>
          <p:cNvSpPr txBox="1"/>
          <p:nvPr/>
        </p:nvSpPr>
        <p:spPr>
          <a:xfrm>
            <a:off x="611280" y="4005360"/>
            <a:ext cx="8064360" cy="2303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tting Hill Festiva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Stout"/>
              </a:rPr>
              <a:t>INTRODUC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     </a:t>
            </a:r>
            <a:r>
              <a:rPr b="0" lang="es-ES" sz="4000" spc="-1" strike="noStrike">
                <a:solidFill>
                  <a:srgbClr val="000000"/>
                </a:solidFill>
                <a:latin typeface="Arial Rounded MT Bold"/>
              </a:rPr>
              <a:t>The Notting Hill Carnival has been taking place in London, on the last weekend in August, every year since 1965.</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  </a:t>
            </a:r>
            <a:r>
              <a:rPr b="0" lang="es-ES" sz="4000" spc="-1" strike="noStrike">
                <a:solidFill>
                  <a:srgbClr val="000000"/>
                </a:solidFill>
                <a:latin typeface="Arial Rounded MT Bold"/>
              </a:rPr>
              <a:t>The carnival has attracted up to 2 million people in the past, making it the second largest street festival in the world after Rio.</a:t>
            </a:r>
            <a:endParaRPr b="0" lang="en-US" sz="4000" spc="-1" strike="noStrike">
              <a:solidFill>
                <a:srgbClr val="000000"/>
              </a:solidFill>
              <a:latin typeface="Arial"/>
            </a:endParaRPr>
          </a:p>
          <a:p>
            <a:pPr marL="3358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Goudy Stout"/>
              </a:rPr>
              <a:t>CHILDREN`S DAY</a:t>
            </a:r>
            <a:endParaRPr b="0" lang="en-US" sz="4400" spc="-1" strike="noStrike">
              <a:solidFill>
                <a:srgbClr val="000000"/>
              </a:solidFill>
              <a:latin typeface="Arial"/>
            </a:endParaRPr>
          </a:p>
        </p:txBody>
      </p:sp>
      <p:sp>
        <p:nvSpPr>
          <p:cNvPr id="48" name="PlaceHolder 2"/>
          <p:cNvSpPr>
            <a:spLocks noGrp="1"/>
          </p:cNvSpPr>
          <p:nvPr>
            <p:ph/>
          </p:nvPr>
        </p:nvSpPr>
        <p:spPr>
          <a:xfrm>
            <a:off x="179280" y="1600200"/>
            <a:ext cx="4316400" cy="452592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The very first day of the Notting Hill Carnival is Childrens Day, with a shorter parade route so little feet can keep up.</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This day is normally a little bit less hectic then the main carnival event, so families with small children can rest easy knowing that the crowds won’t be as massive or quite as loud.</a:t>
            </a:r>
            <a:endParaRPr b="0" lang="en-US" sz="2400" spc="-1" strike="noStrike">
              <a:solidFill>
                <a:srgbClr val="000000"/>
              </a:solidFill>
              <a:latin typeface="Arial"/>
            </a:endParaRPr>
          </a:p>
        </p:txBody>
      </p:sp>
      <p:pic>
        <p:nvPicPr>
          <p:cNvPr id="49" name="" descr=""/>
          <p:cNvPicPr/>
          <p:nvPr/>
        </p:nvPicPr>
        <p:blipFill>
          <a:blip r:embed="rId1"/>
          <a:stretch/>
        </p:blipFill>
        <p:spPr>
          <a:xfrm>
            <a:off x="4648320" y="1600200"/>
            <a:ext cx="4038480" cy="4525920"/>
          </a:xfrm>
          <a:prstGeom prst="rect">
            <a:avLst/>
          </a:prstGeom>
          <a:ln w="0">
            <a:noFill/>
          </a:ln>
        </p:spPr>
      </p:pic>
      <p:pic>
        <p:nvPicPr>
          <p:cNvPr id="50" name="" descr="Notting Hill Carnival - 1">
            <a:hlinkClick r:id="rId2"/>
          </p:cNvPr>
          <p:cNvPicPr/>
          <p:nvPr/>
        </p:nvPicPr>
        <p:blipFill>
          <a:blip r:embed="rId3"/>
          <a:stretch/>
        </p:blipFill>
        <p:spPr>
          <a:xfrm>
            <a:off x="4643280" y="1628640"/>
            <a:ext cx="4032360" cy="446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a:hlinkClick r:id="rId1"/>
          </p:cNvPr>
          <p:cNvPicPr/>
          <p:nvPr/>
        </p:nvPicPr>
        <p:blipFill>
          <a:blip r:embed="rId2"/>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oudy Stout"/>
              </a:rPr>
              <a:t>HISTORY</a:t>
            </a:r>
            <a:endParaRPr b="0" lang="en-US" sz="4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3200" spc="-1" strike="noStrike">
                <a:solidFill>
                  <a:srgbClr val="000000"/>
                </a:solidFill>
                <a:latin typeface="Arial Rounded MT Bold"/>
              </a:rPr>
              <a:t>This great festival began initially from the energies of Black immigrants from the Caribbean, particularly from Trinidad, where the Carnival tradition is very strong, most of whom were facing racism, lack of working opportunities, and poor housing conditions resulting in a general suppression of good self-esteem.</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Goudy Stout"/>
              </a:rPr>
              <a:t>CREATORS</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4619520" cy="4997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    </a:t>
            </a:r>
            <a:r>
              <a:rPr b="0" lang="es-ES" sz="2800" spc="-1" strike="noStrike">
                <a:solidFill>
                  <a:srgbClr val="000000"/>
                </a:solidFill>
                <a:latin typeface="Arial Rounded MT Bold"/>
              </a:rPr>
              <a:t>The prime mover was </a:t>
            </a:r>
            <a:r>
              <a:rPr b="1" lang="es-ES" sz="2800" spc="-1" strike="noStrike">
                <a:solidFill>
                  <a:srgbClr val="000000"/>
                </a:solidFill>
                <a:latin typeface="Arial Rounded MT Bold"/>
              </a:rPr>
              <a:t>Claudia Jones</a:t>
            </a:r>
            <a:r>
              <a:rPr b="0" lang="es-ES" sz="2800" spc="-1" strike="noStrike">
                <a:solidFill>
                  <a:srgbClr val="000000"/>
                </a:solidFill>
                <a:latin typeface="Arial Rounded MT Bold"/>
              </a:rPr>
              <a:t>, who is widely recognised as 'the Mother of NottingHill Carnival'.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    </a:t>
            </a:r>
            <a:r>
              <a:rPr b="0" lang="es-ES" sz="2800" spc="-1" strike="noStrike">
                <a:solidFill>
                  <a:srgbClr val="000000"/>
                </a:solidFill>
                <a:latin typeface="Arial Rounded MT Bold"/>
              </a:rPr>
              <a:t>For a while it looked as if the event would be banned. </a:t>
            </a:r>
            <a:r>
              <a:rPr b="1" lang="es-ES" sz="2800" spc="-1" strike="noStrike">
                <a:solidFill>
                  <a:srgbClr val="000000"/>
                </a:solidFill>
                <a:latin typeface="Arial Rounded MT Bold"/>
              </a:rPr>
              <a:t>Prince Charles</a:t>
            </a:r>
            <a:r>
              <a:rPr b="0" lang="es-ES" sz="2800" spc="-1" strike="noStrike">
                <a:solidFill>
                  <a:srgbClr val="000000"/>
                </a:solidFill>
                <a:latin typeface="Arial Rounded MT Bold"/>
              </a:rPr>
              <a:t> was one of the few establishment figures who supported the event. </a:t>
            </a:r>
            <a:endParaRPr b="0" lang="en-US" sz="2800" spc="-1" strike="noStrike">
              <a:solidFill>
                <a:srgbClr val="000000"/>
              </a:solidFill>
              <a:latin typeface="Arial"/>
            </a:endParaRPr>
          </a:p>
        </p:txBody>
      </p:sp>
      <p:pic>
        <p:nvPicPr>
          <p:cNvPr id="56" name="" descr="">
            <a:hlinkClick r:id="rId1"/>
          </p:cNvPr>
          <p:cNvPicPr/>
          <p:nvPr/>
        </p:nvPicPr>
        <p:blipFill>
          <a:blip r:embed="rId2"/>
          <a:stretch/>
        </p:blipFill>
        <p:spPr>
          <a:xfrm>
            <a:off x="5508720" y="1413000"/>
            <a:ext cx="2016000" cy="2303280"/>
          </a:xfrm>
          <a:prstGeom prst="rect">
            <a:avLst/>
          </a:prstGeom>
          <a:ln w="0">
            <a:noFill/>
          </a:ln>
        </p:spPr>
      </p:pic>
      <p:pic>
        <p:nvPicPr>
          <p:cNvPr id="57" name="" descr=""/>
          <p:cNvPicPr/>
          <p:nvPr/>
        </p:nvPicPr>
        <p:blipFill>
          <a:blip r:embed="rId3"/>
          <a:stretch/>
        </p:blipFill>
        <p:spPr>
          <a:xfrm>
            <a:off x="5435640" y="3933720"/>
            <a:ext cx="2160720" cy="215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09:37:36Z</dcterms:created>
  <dc:creator>alumeso18</dc:creator>
  <dc:description/>
  <dc:language>en-US</dc:language>
  <cp:lastModifiedBy>Administrador</cp:lastModifiedBy>
  <dcterms:modified xsi:type="dcterms:W3CDTF">2009-01-28T13:06:03Z</dcterms:modified>
  <cp:revision>4</cp:revision>
  <dc:subject/>
  <dc:title>AUGUST</dc:title>
</cp:coreProperties>
</file>